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0737-4EE0-4001-B986-F0E0D7B09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9A8B-626C-421C-AD95-C67EEB41E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BC27-7F6F-4A03-AC7D-C26E04146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3671-77C9-454C-B225-D1B8ED6D8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A76C-4B7A-4976-9C08-6086375A4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A38E-A706-4534-B0D2-391AB3CDB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6DA9-976E-4C47-BE47-9C1989D83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B471-5FC3-428C-9671-5BA803E9D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EBB7-FC57-435F-A1CF-B5E949894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81D1-F4CD-4337-A6E0-8F0336113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D81A-1DCD-4CE3-89C9-999AEEFB5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60D4-8BE9-41AB-A8BA-1ECBE83A1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89937-995D-4352-8826-8DE1F0DABAF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Wemyss League"/>
          <p:cNvPicPr/>
          <p:nvPr/>
        </p:nvPicPr>
        <p:blipFill>
          <a:blip r:embed="rId1"/>
          <a:stretch/>
        </p:blipFill>
        <p:spPr>
          <a:xfrm>
            <a:off x="3381480" y="2286000"/>
            <a:ext cx="1042920" cy="10238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0" y="15717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RATHMIGLO                 STRATHMIGLO  100TH              WINDYGATES  DURIEVALE                     WINDYGATES                           WINDYGATES                               WORM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3800520" y="0"/>
            <a:ext cx="258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7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Wormit 100th"/>
          <p:cNvPicPr/>
          <p:nvPr/>
        </p:nvPicPr>
        <p:blipFill>
          <a:blip r:embed="rId2"/>
          <a:stretch/>
        </p:blipFill>
        <p:spPr>
          <a:xfrm>
            <a:off x="309600" y="2286000"/>
            <a:ext cx="1006560" cy="973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East Fife Assoc"/>
          <p:cNvPicPr/>
          <p:nvPr/>
        </p:nvPicPr>
        <p:blipFill>
          <a:blip r:embed="rId3"/>
          <a:stretch/>
        </p:blipFill>
        <p:spPr>
          <a:xfrm>
            <a:off x="1738440" y="2286000"/>
            <a:ext cx="1042920" cy="1023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Wormit 1"/>
          <p:cNvPicPr/>
          <p:nvPr/>
        </p:nvPicPr>
        <p:blipFill>
          <a:blip r:embed="rId4"/>
          <a:stretch/>
        </p:blipFill>
        <p:spPr>
          <a:xfrm>
            <a:off x="7738920" y="500040"/>
            <a:ext cx="1133640" cy="1106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2" descr="St"/>
          <p:cNvPicPr/>
          <p:nvPr/>
        </p:nvPicPr>
        <p:blipFill>
          <a:blip r:embed="rId5"/>
          <a:stretch/>
        </p:blipFill>
        <p:spPr>
          <a:xfrm>
            <a:off x="4667400" y="1857240"/>
            <a:ext cx="1590480" cy="1452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4" descr="Windygates 3"/>
          <p:cNvPicPr/>
          <p:nvPr/>
        </p:nvPicPr>
        <p:blipFill>
          <a:blip r:embed="rId6"/>
          <a:stretch/>
        </p:blipFill>
        <p:spPr>
          <a:xfrm>
            <a:off x="6310440" y="214200"/>
            <a:ext cx="1206360" cy="13622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5" descr="Windygates 2"/>
          <p:cNvPicPr/>
          <p:nvPr/>
        </p:nvPicPr>
        <p:blipFill>
          <a:blip r:embed="rId7"/>
          <a:stretch/>
        </p:blipFill>
        <p:spPr>
          <a:xfrm>
            <a:off x="4809960" y="214200"/>
            <a:ext cx="1189080" cy="1413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6"/>
          <p:cNvSpPr/>
          <p:nvPr/>
        </p:nvSpPr>
        <p:spPr>
          <a:xfrm>
            <a:off x="0" y="3284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ORMIT  100TH                     EAST  FIFE  LEAGUE                        WEMYSS  LEAGUE                ST.  ANDREWS  ASSO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3" descr="Strathmiglo 100th.JPG"/>
          <p:cNvPicPr/>
          <p:nvPr/>
        </p:nvPicPr>
        <p:blipFill>
          <a:blip r:embed="rId8"/>
          <a:stretch/>
        </p:blipFill>
        <p:spPr>
          <a:xfrm>
            <a:off x="1666800" y="428760"/>
            <a:ext cx="1225800" cy="1143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" descr="Windygates 1.JPG"/>
          <p:cNvPicPr/>
          <p:nvPr/>
        </p:nvPicPr>
        <p:blipFill>
          <a:blip r:embed="rId9"/>
          <a:stretch/>
        </p:blipFill>
        <p:spPr>
          <a:xfrm>
            <a:off x="3309840" y="357120"/>
            <a:ext cx="1060560" cy="1243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8" descr="Strathmiglo 1"/>
          <p:cNvPicPr/>
          <p:nvPr/>
        </p:nvPicPr>
        <p:blipFill>
          <a:blip r:embed="rId10"/>
          <a:stretch/>
        </p:blipFill>
        <p:spPr>
          <a:xfrm>
            <a:off x="380880" y="285840"/>
            <a:ext cx="895320" cy="12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3T14:22:55Z</dcterms:created>
  <dc:creator>HP authorized customer</dc:creator>
  <dc:description/>
  <dc:language>en-US</dc:language>
  <cp:lastModifiedBy>John</cp:lastModifiedBy>
  <dcterms:modified xsi:type="dcterms:W3CDTF">2008-08-06T15:19:09Z</dcterms:modified>
  <cp:revision>12</cp:revision>
  <dc:subject/>
  <dc:title>Slide 1</dc:title>
</cp:coreProperties>
</file>